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A50-ACF5-43B1-8BCF-9EFBE1DD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B5E-296F-475A-A4F6-270507E8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03D-062A-4966-A27F-FACB4D1C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960-AA98-49BD-8CFD-D650B47F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24CE-01FE-46BB-8486-49351CA1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454C-015C-42F7-B303-EE968199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0896-13DF-4EB4-AF64-2AAA9C52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3A6B-B404-4365-B89F-145D9D8F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E2E7-6BBA-4DC3-989D-B419E2E8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28B5-2FDB-4B4F-8755-DB5217B1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28DF-BA3A-478B-BF12-3F2F9AA7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2E6-920B-4131-A350-CA8A5A43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28BA-A7D0-477F-93F1-5E4FFD4B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5184-1E57-4336-8A39-D27AF6D0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5DD6-C252-4593-8C87-D0718934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C996-4E3B-4D08-A67E-CBC590E9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130A-DEC8-4902-A795-00048BD9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2D642-CBA4-4BA7-A0AE-8008BD86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485E-C5F0-4179-B966-A3D146F4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ABDB-D4D1-47B9-BC17-67ECEE35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9E55-CF8D-4E04-8235-457894E2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9D9C-D283-41AD-B66A-ACF23F61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F78-341A-4525-89B2-A0C8777D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6EBDF-3E90-4FF6-9F4A-BB0116C1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61A5-E3DF-44BF-A2AB-74E1FE1F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55F6-3126-4472-8385-414F7C04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74B0-2640-46EF-8A68-D0F2C621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636E8-DBB2-4665-9FC9-16AA8367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0CB24-FC35-417B-ACA9-16EE8913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7051-E49D-4170-AB5A-6DCD23D0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039E3-E5AA-4BFD-9E32-72CBBEA7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A1840-2D61-4753-AD2F-83153FD8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64EB-7EF8-4090-A0C2-F8604F0E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748-B522-4752-9811-09C092A0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A0150-FF1C-4116-922F-91E40EB8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93A0-1DCF-41C6-A118-A4ADBE05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80EEA-034A-41D3-9E86-66EDC139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DC6B4-6F67-4B70-86A3-2F11F72C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90A2E-DEEE-4CFD-AFA5-05EE1769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E5DA4-DE26-4DD4-9B1F-57A5A19A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5BD12-DA13-4072-9416-C091C472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F183C-BA77-4ADE-AEA0-2AC18263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3B385-DF4E-4CE6-87EC-BB13770E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B84B9-33CC-48FE-8648-B111F353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7BD-61F9-4421-B846-3728BFFD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14ADA-2F3B-407A-8AD3-BE40B9DA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6D4AB-57C5-478B-AED8-E9DC8E53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76DE0-6036-4C6D-9F02-2629850F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ADBC8-2246-4547-9E64-97FA7A1B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A52FA-5E37-4625-B86B-CC8A42A0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07FB2-0A27-4E49-B129-58E7573B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3D9FE-C051-4C85-8252-496DC48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A6E9D-A80B-49B9-8831-27214C82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A0054-39F4-4832-98C4-48010702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5457-11CE-4235-A3B9-9B89DC81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FC5-42DA-4475-8331-DFDFDDBA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625E8-8E40-44BB-867B-50314473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17C-712C-43C6-BE35-9091C4CE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3D5-2045-42E4-A91F-3A7EF8E9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3C5-61E5-4A83-A323-EF8979B9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© 2020 Anne Pi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1A86-6142-46DC-B038-C21EF9A9930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607A-56B2-4341-A8A4-7779393E63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FD0D-767B-4292-BDF1-77E744713C8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9683-8D93-4CB0-815F-81531CFF0FC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A255-C0C9-4B62-9821-61B12BB95D9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5/6 Spelling Quiz 29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ds containing oug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have _______ milk for break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o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539640" y="1628640"/>
            <a:ext cx="799308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though he _______ bravely, there were too many attackers for him to handle on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539640" y="1700280"/>
            <a:ext cx="799308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en you walk _____ the forest, be careful, many strange creatures hide in the undergrowth waiting to at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acher Instru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PowerPoint is intended as a quick 5-10 minute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ildren need no equi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consolidate the teaching of statutory words or spelling rules or spelling patterns in the week that they are tau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aid long-tern retention at a distance from the initial inp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ich ______ do you liv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r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would love a_______ for my sn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ugh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u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times zero is called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k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windscreen has _______ g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gh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uff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f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h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roject has made a _____, the solution to the problem i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ake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eak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ake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eak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have _______ new shoes from the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w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my bag I have _______ some sweets to shar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7T11:15:21Z</dcterms:created>
  <dc:creator>Anne</dc:creator>
  <dc:description/>
  <dc:language>en-US</dc:language>
  <cp:lastModifiedBy>Anne</cp:lastModifiedBy>
  <dcterms:modified xsi:type="dcterms:W3CDTF">2021-05-26T10:50:40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